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49E-B985-452C-83D4-25FAAF4C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63E-105B-4071-B3FB-0208A84B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444-5B46-40A2-832E-DBB9CCC7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D20-42F8-41A5-9DFE-5287A8E6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E46-D8EB-4BB2-86F1-1CC4D4C8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8FB-5F17-4353-A93F-4D79F33C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94F-4565-47AD-B09A-86BF9918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CFD-3272-4C6F-8759-185EB2C7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B5D-2AE7-4077-84F3-B5ABF171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9FC-7A99-4F85-A9D0-C32857B6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726-0DF7-4709-B55D-9EE400C6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0C8-2402-4827-AE51-97556DD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985A-3520-435A-B337-D9606523C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ncestry.com/s33216/t10989/grid1000/rd.ashx" TargetMode="External"/><Relationship Id="rId2" Type="http://schemas.openxmlformats.org/officeDocument/2006/relationships/hyperlink" Target="http://www.rootsweb.ancestry.com/~wggerman/map/index.htm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naissance and the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f the Cent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id 16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V, Francis I and Henry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Years’ War followed by another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of the Roses (1455-14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of York (white rose) versus House of Lancaster (red r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of Lancaster ruled until 1461 when Edward IV of York took over and increased the power and finances of the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VI-&gt; Edward IV (York)-&gt;Henry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III usurped power from Edward’s sons in 14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Tudor (Lancastrian) defeated Richard III (York) on Bosworth Field in 14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VII (Tudor marries a Y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Tudor / Henry 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enryvii"/>
          <p:cNvPicPr/>
          <p:nvPr/>
        </p:nvPicPr>
        <p:blipFill>
          <a:blip r:embed="rId1"/>
          <a:stretch/>
        </p:blipFill>
        <p:spPr>
          <a:xfrm>
            <a:off x="2554200" y="1371600"/>
            <a:ext cx="4135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VII (1486-1509) of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ried a York to solidify t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the court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 of Star Chamber that limited the power of the arist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justices of the peace, unpaid local officials, to handle justice on the lo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not use Parliament to collect funds (note similarity w/Louis X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loyalty among the middle class because he did not tax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middle class people as his chief ministers-&gt;zero sum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ed money from feudal dues and taxes on im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anding Army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England to prosperity and pe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VIII (1509-154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Brother Arthur was to become King-&gt;married Catherine of Aragon (Ferdinand and Isabella’s child)-&gt;Arthur 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marries his dead brother’s 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issance 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d w/Erasmus and More (who was later in his cou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erian Peninsula controlled by Kingdoms of Castile, Aragon, Portugal, Navarre, and Granada in mid 15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le and Aragon were united when Isabella of Castile married Ferdinand of Aragon in 14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dinand and Isab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ferdinandandisabella"/>
          <p:cNvPicPr/>
          <p:nvPr/>
        </p:nvPicPr>
        <p:blipFill>
          <a:blip r:embed="rId1"/>
          <a:stretch/>
        </p:blipFill>
        <p:spPr>
          <a:xfrm>
            <a:off x="1174680" y="1600200"/>
            <a:ext cx="6792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dinand and Isabella of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ment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ized all of Spain by expelling Muslims from Granada in 149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ing Jews and Muslims to convert to Christia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sition- Torquemada persecuting ones who were not sincere under the Inquisition,  forced unconverted Jews and Muslims to leave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the church by appointing important officers of the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d nobles with middle class in government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d overseas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child Charles I (also known as Charles V) was first ruler of all of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seas expl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gotebourg asian jesus"/>
          <p:cNvPicPr/>
          <p:nvPr/>
        </p:nvPicPr>
        <p:blipFill>
          <a:blip r:embed="rId1"/>
          <a:stretch/>
        </p:blipFill>
        <p:spPr>
          <a:xfrm>
            <a:off x="609480" y="1219320"/>
            <a:ext cx="5891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y Rom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a system of electing the Emperor with the Golden Bull in 13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llian created a Reichstag to balance the rights of the Emperor with the rights of the pri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sburg dynasty controlled position of Holy Roman Emperor after 14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bsbur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0s- 1918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ian estates- Danube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of Elector- 1438- dominate HRE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you Habsburg agree to take this land…-Marriage…  Burgundy expanded into lowlan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uis XI (spider king)-&gt;defeated Charles the Bold gained much of Burgundy, Charles daughter married Max, then Max’s son married Joann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gn of Charles I 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europe_15th_colbeck"/>
          <p:cNvPicPr/>
          <p:nvPr/>
        </p:nvPicPr>
        <p:blipFill>
          <a:blip r:embed="rId1"/>
          <a:stretch/>
        </p:blipFill>
        <p:spPr>
          <a:xfrm>
            <a:off x="533520" y="420840"/>
            <a:ext cx="746280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>
            <a:hlinkClick r:id="rId1"/>
          </p:cNvPr>
          <p:cNvSpPr/>
          <p:nvPr/>
        </p:nvSpPr>
        <p:spPr>
          <a:xfrm>
            <a:off x="0" y="-4101840"/>
            <a:ext cx="9144000" cy="82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90000" tIns="-270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55a46"/>
                </a:solidFill>
                <a:latin typeface="Verdana"/>
              </a:rPr>
              <a:t>Search billions of records on Ancestr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the Habsburg Empire of Charles V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Map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3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ap of Hapsburg Empire"/>
          <p:cNvPicPr/>
          <p:nvPr/>
        </p:nvPicPr>
        <p:blipFill>
          <a:blip r:embed="rId3"/>
          <a:stretch/>
        </p:blipFill>
        <p:spPr>
          <a:xfrm>
            <a:off x="108000" y="304920"/>
            <a:ext cx="9050400" cy="6607080"/>
          </a:xfrm>
          <a:prstGeom prst="rect">
            <a:avLst/>
          </a:prstGeom>
          <a:ln w="0">
            <a:noFill/>
          </a:ln>
        </p:spPr>
      </p:pic>
      <p:pic>
        <p:nvPicPr>
          <p:cNvPr id="83" name="DefaultOcx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HTMLText1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HTMLText2" descr=""/>
          <p:cNvPicPr/>
          <p:nvPr/>
        </p:nvPicPr>
        <p:blipFill>
          <a:blip r:embed="rId6"/>
          <a:stretch/>
        </p:blipFill>
        <p:spPr>
          <a:xfrm>
            <a:off x="0" y="0"/>
            <a:ext cx="13716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HTMLSubmit1" descr=""/>
          <p:cNvPicPr/>
          <p:nvPr/>
        </p:nvPicPr>
        <p:blipFill>
          <a:blip r:embed="rId7"/>
          <a:stretch/>
        </p:blipFill>
        <p:spPr>
          <a:xfrm>
            <a:off x="90360" y="-28440"/>
            <a:ext cx="733680" cy="36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faculty.cua.edu/pennington/churchhistory220/lecture14/CharlesVEmpire2Sm.JPG"/>
          <p:cNvPicPr/>
          <p:nvPr/>
        </p:nvPicPr>
        <p:blipFill>
          <a:blip r:embed="rId1"/>
          <a:stretch/>
        </p:blipFill>
        <p:spPr>
          <a:xfrm>
            <a:off x="609480" y="228600"/>
            <a:ext cx="6350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tfssocial.weebly.com/uploads/3/5/2/5/3525987/majorcentres_5594392_orig.gif"/>
          <p:cNvPicPr/>
          <p:nvPr/>
        </p:nvPicPr>
        <p:blipFill>
          <a:blip r:embed="rId1"/>
          <a:stretch/>
        </p:blipFill>
        <p:spPr>
          <a:xfrm>
            <a:off x="279360" y="0"/>
            <a:ext cx="788688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not Central and Easter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gary and Poland Nobility dom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hemia- Slavic v. German- Hussite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toman conquests, 1526 Suleiman I moves as far west and north as Hungary (Battle of Moha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still lingering from control of Mongols- starting to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Monarchi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Europe – Spain, France, and England – but not in Eastern or Central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out of the 14th century and the end of the Middle Ages –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ack Plag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00 Years’ War and its’ concommitant expen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solution of the feudal syste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e of towns and cities, the rise of the middl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sovereign states with centralized authority – decisions made by King and exercised through his agents apply to whole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the New Monarch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armies (instead of feudal system)- need for Professional Ar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zed authority in the hands of the King – took power away from representative bodies (Parliament in England, Cortes in Spain, Estates General in F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es on the peasantry and borrowed money, but few taxes on the nobility-&gt;Costs of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Armies, often relied upon mercenaries.  Charles V had a standing army of more than 100k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xpensive weapons-&gt;technology-&gt;cannon, aque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ers, Fueggers, Medici’s lent money to Kings-&gt;debt of Francis I after Italian Wars was over 7 Million Ducats-&gt;more than his revenue in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bureaucracy made up of the middle class instead of the nobility-&gt;zero sum game-&gt;Nobles often given other rights/privili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royal courts, made rule hereditary (Valois, Tud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plomacy between states-&gt;often through m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oscow Cannon 16C 2 ton canon balls"/>
          <p:cNvPicPr/>
          <p:nvPr/>
        </p:nvPicPr>
        <p:blipFill>
          <a:blip r:embed="rId1"/>
          <a:stretch/>
        </p:blipFill>
        <p:spPr>
          <a:xfrm>
            <a:off x="838080" y="304920"/>
            <a:ext cx="624204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estonia knight weapons"/>
          <p:cNvPicPr/>
          <p:nvPr/>
        </p:nvPicPr>
        <p:blipFill>
          <a:blip r:embed="rId2"/>
          <a:stretch/>
        </p:blipFill>
        <p:spPr>
          <a:xfrm>
            <a:off x="4191120" y="4127400"/>
            <a:ext cx="411156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of 100 Years’ War still plagued country – depopulation, devastated f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 VII (1422 – 1461) (Capetia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a royal council made up of middle class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professional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d the English from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elle - tax on salt instituted to raise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le – a tax on the peasant’s 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did not use the Estates General to tax people from (1484 to 1560) – these two taxes gave him enough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idn’t the King want the Estates General to me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b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alt"/>
          <p:cNvPicPr/>
          <p:nvPr/>
        </p:nvPicPr>
        <p:blipFill>
          <a:blip r:embed="rId1"/>
          <a:stretch/>
        </p:blipFill>
        <p:spPr>
          <a:xfrm>
            <a:off x="2666880" y="2706840"/>
            <a:ext cx="38102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 XI (1461-1483) (Capet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less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postal service-&gt;new bureau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ated Charles the Bold and overtook the duchy of Burgundy in 1482 (Burgundy no longer a threat by the mid 16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s in Italy at the end of the 15th century and with the Habsburgs in the 16th century were expensive and divided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is I- 1515-1547 (Valo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Vinci and B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evre becomes site of masterpiece ar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ation of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becomes offici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rch to register births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5:51:09Z</dcterms:created>
  <dc:creator>Gregory Smith</dc:creator>
  <dc:description/>
  <dc:language>en-US</dc:language>
  <cp:lastModifiedBy>Local User</cp:lastModifiedBy>
  <dcterms:modified xsi:type="dcterms:W3CDTF">2012-09-19T12:22:13Z</dcterms:modified>
  <cp:revision>13</cp:revision>
  <dc:subject/>
  <dc:title>The Renaissance and the State</dc:title>
</cp:coreProperties>
</file>